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54F4-3D44-4B7E-8CAE-46DFE8224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0C62585-FC73-4D0E-B917-8182C7B53B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B644686-A2F7-4B34-8A96-21F1140A5C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6480" y="736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5769-13ED-4626-AE47-51E2AD6AF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E4024C5-3569-4510-8ECB-7007C28444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973-D403-4709-B4D2-A445129F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142-4A14-44FC-9C6C-D6F58F01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BF1-E0D5-445B-BE57-6017D878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1A4-5806-4586-B485-F22E4107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381-26BB-4E1E-8453-6C766457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B9E-718C-4A9B-A5CC-45EAABAB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B14-5075-41F9-A347-BE16E41B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E80-A7E1-43A0-9A52-979988D7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998-7A25-4E3F-B2E9-ACA5AB90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340-B563-43E4-B822-1F63C09F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8FA-224D-4095-9A2D-0891C4E2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F0D-C111-4EB8-A6A4-9A61F376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0921-55E4-4EBE-B3F4-9E8CD5E72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843280" y="260280"/>
            <a:ext cx="61783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1. В Российской Федерации признается идеологическое многообраз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2. Никакая идеоло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3. В Российской Федерации признаются политическое многообразие, многопартий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4. Общественные объединения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5. Запрещается создание и деятельность общественных объединений, цели или действия которых направлены на насильственное изменение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12680" y="540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ФЗ № 114 от 25.07.2002 «О противодействии экстремистской деятельности», стать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ская деятельность (экстремизм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55600" y="781200"/>
            <a:ext cx="8856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. насильственное изменение основ конституционного строя и нарушение целостности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2. публичное оправдание терроризма и иная террористическая деятельность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возбуждение социальной, расовой, национальной или религиозной розн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пропаганда исключительности, превосходства либо неполноценности человека по признаку его социальной, 4.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5. 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6. воспрепятствование осуществлению гражданами их избирательных прав и права на участие в референдуме или нарушение тайны голосования, соединенны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7. 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енно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8. совершение преступлений по мотивам, указанным в пункте «е» части первой статьи 63 Уголовного кодекса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9. 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, либо публичное демонстрирование атрибутики или символики экстремистских организаци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0.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1. 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2. организация и подготовка указанных деяний, а также подстрекательство к их осуществлению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3. финансирование указанных деяний либо иное содействие в их организации, подготовке и осуществлении, в том числе путем предоставления учебной, полиграфической и материально-технической базы, телефонной и иных видов связи или оказания информационных услу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Прямоугольник 2"/>
          <p:cNvGrpSpPr/>
          <p:nvPr/>
        </p:nvGrpSpPr>
        <p:grpSpPr>
          <a:xfrm>
            <a:off x="-103320" y="-109440"/>
            <a:ext cx="9150480" cy="920520"/>
            <a:chOff x="-103320" y="-109440"/>
            <a:chExt cx="9150480" cy="920520"/>
          </a:xfrm>
        </p:grpSpPr>
        <p:pic>
          <p:nvPicPr>
            <p:cNvPr id="72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04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52360" y="-7920"/>
              <a:ext cx="877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Особенности и виды современных экстремистских проявле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4"/>
          <p:cNvGrpSpPr/>
          <p:nvPr/>
        </p:nvGrpSpPr>
        <p:grpSpPr>
          <a:xfrm>
            <a:off x="-139680" y="1079640"/>
            <a:ext cx="4254480" cy="998280"/>
            <a:chOff x="-139680" y="1079640"/>
            <a:chExt cx="4254480" cy="998280"/>
          </a:xfrm>
        </p:grpSpPr>
        <p:pic>
          <p:nvPicPr>
            <p:cNvPr id="7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9680" y="1079640"/>
              <a:ext cx="42544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19240" y="1093680"/>
              <a:ext cx="387792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- явление мегаполисов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ультурных центр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5"/>
          <p:cNvGrpSpPr/>
          <p:nvPr/>
        </p:nvGrpSpPr>
        <p:grpSpPr>
          <a:xfrm>
            <a:off x="4761000" y="1079640"/>
            <a:ext cx="4249800" cy="1011240"/>
            <a:chOff x="4761000" y="1079640"/>
            <a:chExt cx="4249800" cy="1011240"/>
          </a:xfrm>
        </p:grpSpPr>
        <p:pic>
          <p:nvPicPr>
            <p:cNvPr id="78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761000" y="1079640"/>
              <a:ext cx="42498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18120" y="1093680"/>
              <a:ext cx="38782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связан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 распространением 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Овал 7"/>
          <p:cNvSpPr/>
          <p:nvPr/>
        </p:nvSpPr>
        <p:spPr>
          <a:xfrm>
            <a:off x="87480" y="1860480"/>
            <a:ext cx="3506760" cy="1376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8"/>
          <p:cNvSpPr/>
          <p:nvPr/>
        </p:nvSpPr>
        <p:spPr>
          <a:xfrm>
            <a:off x="1584360" y="5619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11"/>
          <p:cNvSpPr/>
          <p:nvPr/>
        </p:nvSpPr>
        <p:spPr>
          <a:xfrm>
            <a:off x="4114800" y="577800"/>
            <a:ext cx="934920" cy="74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3711600" y="2975040"/>
            <a:ext cx="2444760" cy="1684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4"/>
          <p:cNvSpPr/>
          <p:nvPr/>
        </p:nvSpPr>
        <p:spPr>
          <a:xfrm>
            <a:off x="6060960" y="1860480"/>
            <a:ext cx="3025800" cy="1281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5"/>
          <p:cNvSpPr/>
          <p:nvPr/>
        </p:nvSpPr>
        <p:spPr>
          <a:xfrm>
            <a:off x="6056280" y="4513320"/>
            <a:ext cx="2940120" cy="1401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6"/>
          <p:cNvSpPr/>
          <p:nvPr/>
        </p:nvSpPr>
        <p:spPr>
          <a:xfrm>
            <a:off x="282600" y="4327560"/>
            <a:ext cx="3238560" cy="14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культ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8"/>
          <p:cNvSpPr/>
          <p:nvPr/>
        </p:nvSpPr>
        <p:spPr>
          <a:xfrm>
            <a:off x="6416640" y="5745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верх/вниз 3"/>
          <p:cNvSpPr/>
          <p:nvPr/>
        </p:nvSpPr>
        <p:spPr>
          <a:xfrm>
            <a:off x="1668600" y="3449520"/>
            <a:ext cx="465120" cy="663840"/>
          </a:xfrm>
          <a:prstGeom prst="up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верх/вниз 20"/>
          <p:cNvSpPr/>
          <p:nvPr/>
        </p:nvSpPr>
        <p:spPr>
          <a:xfrm rot="5400000">
            <a:off x="4681800" y="215964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войная стрелка вверх/вниз 22"/>
          <p:cNvSpPr/>
          <p:nvPr/>
        </p:nvSpPr>
        <p:spPr>
          <a:xfrm>
            <a:off x="7332840" y="34290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войная стрелка вверх/вниз 23"/>
          <p:cNvSpPr/>
          <p:nvPr/>
        </p:nvSpPr>
        <p:spPr>
          <a:xfrm rot="5400000">
            <a:off x="4666680" y="483696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войная стрелка вверх/вниз 24"/>
          <p:cNvSpPr/>
          <p:nvPr/>
        </p:nvSpPr>
        <p:spPr>
          <a:xfrm rot="7919400">
            <a:off x="3360240" y="284292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стрелка вверх/вниз 25"/>
          <p:cNvSpPr/>
          <p:nvPr/>
        </p:nvSpPr>
        <p:spPr>
          <a:xfrm rot="2658600">
            <a:off x="3320640" y="41004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верх/вниз 26"/>
          <p:cNvSpPr/>
          <p:nvPr/>
        </p:nvSpPr>
        <p:spPr>
          <a:xfrm rot="2658600">
            <a:off x="6089400" y="289548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Двойная стрелка вверх/вниз 27"/>
          <p:cNvSpPr/>
          <p:nvPr/>
        </p:nvSpPr>
        <p:spPr>
          <a:xfrm rot="7919400">
            <a:off x="6093000" y="406800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17440" y="192600"/>
            <a:ext cx="871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Особенности экстремистски настроенной личности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65240" y="788400"/>
            <a:ext cx="881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атегоричное разделение окружающей действительности на «добро» и «зл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Завышенная самооценка и чрезвычайная гордость своими действительными и воображаемыми превосходными качествами, мнение об особом моральном превосходстве над окружающ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тремление объяснять свои неудачи и ошибки враждебностью, злонамеренностью своего социального окру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Особого рода сценарии поведения, которые можно описать терминами конфликт, деструкция и преодоление (спасение)  через революцию, либо через бегство от окружающе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487160"/>
            <a:ext cx="9070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АНАТИЗМ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ность жертвовать во имя этих идей собственной жизнью и жизнями других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уннельное» мировосприятие, то есть восприятие мир через очень жесткую пр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ицание толерантности под которой понимается право другого лица на собственный мировоззренчески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ование на уровне группы, поддержка во взаимном признани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овместном разжигании своих эмоций по поводу общих и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зелитизм как стремление обращать в свою веру окружающих, расширять сферу ее вли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мление противостоять модернизации, приверженность старым, «фундаментальным» ценностям, структурам и способам организац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ом веры может быть не только сверхъестественная реа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натик есть идеальная кандидатура для совершения террористически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9"/>
          <p:cNvSpPr/>
          <p:nvPr/>
        </p:nvSpPr>
        <p:spPr>
          <a:xfrm>
            <a:off x="214200" y="65160"/>
            <a:ext cx="89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оугольник 2"/>
          <p:cNvGrpSpPr/>
          <p:nvPr/>
        </p:nvGrpSpPr>
        <p:grpSpPr>
          <a:xfrm>
            <a:off x="3260880" y="2584440"/>
            <a:ext cx="2931840" cy="1585800"/>
            <a:chOff x="3260880" y="2584440"/>
            <a:chExt cx="2931840" cy="1585800"/>
          </a:xfrm>
        </p:grpSpPr>
        <p:pic>
          <p:nvPicPr>
            <p:cNvPr id="10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60880" y="2584440"/>
              <a:ext cx="293184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635280" y="2597040"/>
              <a:ext cx="25131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экстремистских прояв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Стрелка вниз 20"/>
          <p:cNvSpPr/>
          <p:nvPr/>
        </p:nvSpPr>
        <p:spPr>
          <a:xfrm rot="7275600">
            <a:off x="2642400" y="182052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5"/>
          <p:cNvSpPr/>
          <p:nvPr/>
        </p:nvSpPr>
        <p:spPr>
          <a:xfrm>
            <a:off x="141120" y="4581360"/>
            <a:ext cx="3600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ккультно-сатан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6"/>
          <p:cNvSpPr/>
          <p:nvPr/>
        </p:nvSpPr>
        <p:spPr>
          <a:xfrm>
            <a:off x="5454720" y="417600"/>
            <a:ext cx="3552840" cy="1466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о-сектан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7"/>
          <p:cNvSpPr/>
          <p:nvPr/>
        </p:nvSpPr>
        <p:spPr>
          <a:xfrm>
            <a:off x="5364000" y="4581360"/>
            <a:ext cx="3627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языче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8"/>
          <p:cNvSpPr/>
          <p:nvPr/>
        </p:nvSpPr>
        <p:spPr>
          <a:xfrm>
            <a:off x="212760" y="317520"/>
            <a:ext cx="3794040" cy="1569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29"/>
          <p:cNvSpPr/>
          <p:nvPr/>
        </p:nvSpPr>
        <p:spPr>
          <a:xfrm rot="3018600">
            <a:off x="2658600" y="371484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0"/>
          <p:cNvSpPr/>
          <p:nvPr/>
        </p:nvSpPr>
        <p:spPr>
          <a:xfrm rot="13931400">
            <a:off x="6213960" y="1820880"/>
            <a:ext cx="824040" cy="9968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31"/>
          <p:cNvSpPr/>
          <p:nvPr/>
        </p:nvSpPr>
        <p:spPr>
          <a:xfrm rot="18618000">
            <a:off x="6175080" y="3665160"/>
            <a:ext cx="823680" cy="99864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216000" y="189000"/>
            <a:ext cx="892800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зм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Джихад</a:t>
            </a:r>
            <a:r>
              <a:rPr b="1" i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Халифат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деи ислама, подвергнутые исламистской интерпрет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115920"/>
            <a:ext cx="8928000" cy="66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урджул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блиги Джамаат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т-Такфир Валь-Хиджр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ый федеральный список организаций, в том числе иностранных и международных организаций, признанных судами Российской Федерации террористическ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сбат аль-Анс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ященная война» («Аль-Джихад» или «Египетский исламский джихад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Аль-Гамаа аль-Исламия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атья-мусульмане» («Аль-Ихван аль-Муслиму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ашкар-И-Тай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Джамаат-и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вижение Талиба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партия Туркестана» (бывшее «Исламское движение Узбекистан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социальных реформ» («Джамият аль-Ислах аль-Иджтима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возрождения исламского наследия» («Джамият Ихья ат-Тураз аль-Ислам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м двух святых» («Аль-Харамей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жунд аш-Шам» (Войско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ий джихад – Джамаат моджахедов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ль-Каида в странах исламского Магри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ое государство» (другие названия: «Исламское Государство Ирака и Сирии», «Исламское Государство Ирака и Леванта», «Исламское Государство Ирака и Шам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жебхат ан-Нусра (Фронт победы) (другие названия: «Джабха аль-Нусра ли-Ахль аш-Шам» (Фронт поддержки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жр от Аллаха Субхану уа Тагьаля SHAM» (Благословение от Аллаха милоственного и милосердного СИР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уджахеды джамаата Ат-Тавхида Валь-Джихад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7640" y="90792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2427480" y="189000"/>
            <a:ext cx="42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nko/perechen_za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9036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503280" y="260280"/>
            <a:ext cx="83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nac.gov.ru/terroristicheskie-i-ekstremistskie-organizacii-i-materia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0" y="692280"/>
            <a:ext cx="9134640" cy="51386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1552680" y="115920"/>
            <a:ext cx="60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extremist-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44720" y="998640"/>
            <a:ext cx="614196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Российская Федерация - светское государство. Никакая рели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Религиозные объединения отделены от государства и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ждому гарантируется свобода совести, свобода вероисповедания, включая право исповедовать индивидуально или совместно с другими любую религию или не исповедовать никакой, свободно выбирать, иметь и распространять религиозные и иные убеждения и действовать в соответствии с ни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108000" y="15840"/>
            <a:ext cx="885672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ая сект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деструктивная религиозная или квазирелигиозная (имитирующая религиозную) организация, стремящаяся к установлению полного (тотального) контроля над сознанием и волей своих послед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тоталитарной се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лидера − «вождя», в словах и действиях которого нельзя сомне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жесткой организационной структуры мафиозно-партийного типа, фиксированного членства и препятствий к выходу из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кое деление общества на «наших» и «чужих» и противопоставление своей группы всему остальному об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ый метод спасения или улучшения жизни, который считается секретным и доступен только пришедшим в с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«двойной» истины: для окружающих и для своих (членов сек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аличие простых решений сложных социально-политических и лич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Прямоугольник 2"/>
          <p:cNvGrpSpPr/>
          <p:nvPr/>
        </p:nvGrpSpPr>
        <p:grpSpPr>
          <a:xfrm>
            <a:off x="1262160" y="49320"/>
            <a:ext cx="6546600" cy="895320"/>
            <a:chOff x="1262160" y="49320"/>
            <a:chExt cx="6546600" cy="895320"/>
          </a:xfrm>
        </p:grpSpPr>
        <p:pic>
          <p:nvPicPr>
            <p:cNvPr id="12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19280" y="115920"/>
              <a:ext cx="61768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тоталитарных сек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низ 31"/>
          <p:cNvSpPr/>
          <p:nvPr/>
        </p:nvSpPr>
        <p:spPr>
          <a:xfrm rot="19391400">
            <a:off x="6454440" y="541080"/>
            <a:ext cx="40788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Прямоугольник 10"/>
          <p:cNvGrpSpPr/>
          <p:nvPr/>
        </p:nvGrpSpPr>
        <p:grpSpPr>
          <a:xfrm>
            <a:off x="324000" y="907920"/>
            <a:ext cx="3687480" cy="901800"/>
            <a:chOff x="324000" y="907920"/>
            <a:chExt cx="3687480" cy="901800"/>
          </a:xfrm>
        </p:grpSpPr>
        <p:pic>
          <p:nvPicPr>
            <p:cNvPr id="125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24000" y="907920"/>
              <a:ext cx="36874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974880"/>
              <a:ext cx="331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христи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Прямоугольник 11"/>
          <p:cNvGrpSpPr/>
          <p:nvPr/>
        </p:nvGrpSpPr>
        <p:grpSpPr>
          <a:xfrm>
            <a:off x="4857840" y="901800"/>
            <a:ext cx="3689280" cy="907920"/>
            <a:chOff x="4857840" y="901800"/>
            <a:chExt cx="3689280" cy="907920"/>
          </a:xfrm>
        </p:grpSpPr>
        <p:pic>
          <p:nvPicPr>
            <p:cNvPr id="128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4857840" y="901800"/>
              <a:ext cx="3689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219640" y="96372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восто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Прямоугольник 12"/>
          <p:cNvGrpSpPr/>
          <p:nvPr/>
        </p:nvGrpSpPr>
        <p:grpSpPr>
          <a:xfrm>
            <a:off x="5151600" y="3029040"/>
            <a:ext cx="3681360" cy="1171440"/>
            <a:chOff x="5151600" y="3029040"/>
            <a:chExt cx="3681360" cy="1171440"/>
          </a:xfrm>
        </p:grpSpPr>
        <p:pic>
          <p:nvPicPr>
            <p:cNvPr id="131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5151600" y="3029040"/>
              <a:ext cx="368136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08720" y="3147840"/>
              <a:ext cx="33112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Психолог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оммерческие куль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Прямоугольник 1"/>
          <p:cNvSpPr/>
          <p:nvPr/>
        </p:nvSpPr>
        <p:spPr>
          <a:xfrm>
            <a:off x="4951440" y="1698480"/>
            <a:ext cx="39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УМ Синрике» (AumShinrikyo, AUM, Alep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Единый федеральный список организаций,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ом числе иностранных и международных организаций, признанных судами Российской Федерации террористически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19080" y="1544760"/>
            <a:ext cx="493236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и Иеговы» («Общество сторожевой башни»)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городичный центр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MS Mincho"/>
              </a:rPr>
              <a:t>(Православная церковь Божьей Матери Державная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, ряд материалов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ей Иеговы» </a:t>
            </a: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15"/>
          <p:cNvSpPr/>
          <p:nvPr/>
        </p:nvSpPr>
        <p:spPr>
          <a:xfrm rot="2211600">
            <a:off x="2355480" y="547560"/>
            <a:ext cx="406440" cy="400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16"/>
          <p:cNvSpPr/>
          <p:nvPr/>
        </p:nvSpPr>
        <p:spPr>
          <a:xfrm>
            <a:off x="4221000" y="503280"/>
            <a:ext cx="406440" cy="4777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4627440" y="4179960"/>
            <a:ext cx="46767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ентологическое движение (учение Дианетики, последов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файета Рон Хаббар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ряд материалов 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 Богодержав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Прямоугольник 19"/>
          <p:cNvGrpSpPr/>
          <p:nvPr/>
        </p:nvGrpSpPr>
        <p:grpSpPr>
          <a:xfrm>
            <a:off x="517680" y="3736800"/>
            <a:ext cx="3682800" cy="858960"/>
            <a:chOff x="517680" y="3736800"/>
            <a:chExt cx="3682800" cy="858960"/>
          </a:xfrm>
        </p:grpSpPr>
        <p:pic>
          <p:nvPicPr>
            <p:cNvPr id="139" name="Прямоугольник 19" descr=""/>
            <p:cNvPicPr/>
            <p:nvPr/>
          </p:nvPicPr>
          <p:blipFill>
            <a:blip r:embed="rId5"/>
            <a:stretch/>
          </p:blipFill>
          <p:spPr>
            <a:xfrm>
              <a:off x="517680" y="3736800"/>
              <a:ext cx="36828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74800" y="3843360"/>
              <a:ext cx="3313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мусульм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рямоугольник 5"/>
          <p:cNvSpPr/>
          <p:nvPr/>
        </p:nvSpPr>
        <p:spPr>
          <a:xfrm>
            <a:off x="198360" y="4560840"/>
            <a:ext cx="45720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айзрахманис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четь Мирмаме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2987640" y="189000"/>
            <a:ext cx="59184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квидация религиозной организации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Управленческий центр Свидетелей Иеговы в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12680" y="2397240"/>
            <a:ext cx="887580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62. Религиозная организация «Управленческий центр Свидетелей Иегов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России» и входящие в ее структуру местные религиоз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 Нижняя 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 Первоураль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 Верхняя Пыш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Екатеринбур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Краснотурьин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Нижний Таги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вероуральс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(решение Верховного Суда Российской Федерации от 20.04.2017, апелляционное определение Апелляционной коллегии Верховного Суда Российской Федерации от 17.07.2017; часть 4 статьи 9 Федерального закона  от 25.07.2002 № 114-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3564000" y="1197000"/>
            <a:ext cx="45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ПЕРЕЧЕНЬ НЕКОММЕРЧЕСКИХ ОРГАНИЗАЦИЙ, В ОТНОШЕНИИ КОТОРЫХ СУДОМ ПРИНЯТО ВСТУПИВШЕЕ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В ЗАКОННУЮ СИЛУ РЕШЕНИЕ О ЛИКВИДАЦИИ ИЛИ ЗАПРЕТЕ ДЕЯТЕЛЬНОСТИ ПО ОСНОВАНИЯМ, ПРЕДУСМОТРЕННЫМ ФЗ «О ПРОТИВОДЕЙСТВИИ ЭКСТРЕМИСТ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108000" y="0"/>
            <a:ext cx="889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формационные материалы, распространяемые централизованной религиозной организацией «Управленческий центр Свидетелей Иеговы в России» и ее местными религиозными организациями Свидетелей Иеговы на территории Российской Федерации, судами признаны экстремистскими ввиду установления фактов наличия в них информации, возбуждающей религиозную рознь, пропагандирующей исключительность, превосходство и неполноценность граждан по признаку их отношения к религии.  На основании вступивших в законную силу решений судов  95 печатных материалов внесены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федеральный список экстремистски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Заголовок 1"/>
          <p:cNvSpPr/>
          <p:nvPr/>
        </p:nvSpPr>
        <p:spPr>
          <a:xfrm>
            <a:off x="76320" y="2205000"/>
            <a:ext cx="5790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26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являлась централизованной религиозной организацией, в структуру которой в настоящее время наря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созданным указанным объединением Руководящим комитетом - высшим органом управления Организации входили 395 местных религиозных организаций, в том числе  8 местных религиозных организаций на территории Свердл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рямоугольник 1"/>
          <p:cNvGrpSpPr/>
          <p:nvPr/>
        </p:nvGrpSpPr>
        <p:grpSpPr>
          <a:xfrm>
            <a:off x="1262160" y="-23760"/>
            <a:ext cx="6546600" cy="865080"/>
            <a:chOff x="1262160" y="-23760"/>
            <a:chExt cx="6546600" cy="865080"/>
          </a:xfrm>
        </p:grpSpPr>
        <p:pic>
          <p:nvPicPr>
            <p:cNvPr id="14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262160" y="-23760"/>
              <a:ext cx="6546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19280" y="11592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Неоязыч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2"/>
          <p:cNvSpPr/>
          <p:nvPr/>
        </p:nvSpPr>
        <p:spPr>
          <a:xfrm>
            <a:off x="282600" y="547560"/>
            <a:ext cx="878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авославная Славянская община «ВЕК РА» (Ведической Культуры Российских Ариев) Скифской Веси Расс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Рада земли Кубанской Духовно Родовой Державы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ревнерусской Инглиистической церкви Православных Староверов-Инглинг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уховно-Родовая Держава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158760" y="1847880"/>
            <a:ext cx="89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Прямоугольник 2"/>
          <p:cNvGrpSpPr/>
          <p:nvPr/>
        </p:nvGrpSpPr>
        <p:grpSpPr>
          <a:xfrm>
            <a:off x="1262160" y="49320"/>
            <a:ext cx="6546600" cy="858600"/>
            <a:chOff x="1262160" y="49320"/>
            <a:chExt cx="6546600" cy="858600"/>
          </a:xfrm>
        </p:grpSpPr>
        <p:pic>
          <p:nvPicPr>
            <p:cNvPr id="15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19280" y="18900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ат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1"/>
          <p:cNvSpPr/>
          <p:nvPr/>
        </p:nvSpPr>
        <p:spPr>
          <a:xfrm>
            <a:off x="3139560" y="6890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лагородный Орден Дьяв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06200" y="1069920"/>
            <a:ext cx="892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79280" y="322560"/>
            <a:ext cx="878544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сенофоб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испытывает эмоциональный дискомфорт иррационального характера при взаимодействии с представителями и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индивида присутствует сформированный негативный стереотипа, отрицательного образ иной группы («они все плохи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 склонен приписывать представителям иных групп враждебные действия и опасные намерения по отношению к другим («они опасны для нас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готов к активным насильственным действиям против этой группы, испытывает соответствующие побуждения («бей первым, нападай, иначе они нападут первы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43000" y="62928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предстают в негативном св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объявляются плохими только потому, что их отдельные представители оказались преступниками и негодя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люди определенной группы заведомо лучше и имеют больше прав, чем все ост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народ, религия, социальная группа тайно замыслили против всех остальных что-то нехорош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зывают к насилию против других народов,  религий или иных социальных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84360" y="-122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емистски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108000" y="11592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ло Соколовско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71280" y="973080"/>
            <a:ext cx="5796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оловский признан виновным по части 1 статьи 148 УК РФ «Нарушение права на свободу совести и вероисповеданий». В его действиях также обнаружены признаки возбуждения религиозной и национальной розни вражды и ненависти         (ст. 282 УК РФ). В своих видеороликах он неоднократно называл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уппы верующих христиан и мусульман 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корбительными словами, использовал нецензурную лексику в их адрес, неоднократно оскорбительно отзывался о различных группах граждан: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валидах, тяжелобольных людях, пациентах хосписов, детях с синдромом Дауна, женщинах и других социальных групп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844720" y="998640"/>
            <a:ext cx="5977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Статья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Каждому гарантируется свобода мысли и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 допускаются пропаганда или агитация, возбуждающие социальную, расовую, национальную или религиозную ненависть и вражду. Запрещается пропаганда социального, расового, национального, религиозного или языкового превосхо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Никто не может быть принужден к выражению своих мнений и убеждений или отказу от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Каждый имеет право свободно искать, получать, передавать, производить и распространять информацию любым законным способом. Перечень сведений, составляющих государственную тайну, определяется федеральным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 Гарантируется свобода массовой информации. Цензура запрещ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36440" y="2708280"/>
            <a:ext cx="882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ауны тем более не должны размножаться и распространять свои отвратительные ге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[Женщина] – инкубатор, она слабый пол, и с этим нужно просто смириться, и принять себя такой, какая ты 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от овощ, а вот еще один овощ» (на экране – фото помидора и ребенка с синдромом Даун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11640" y="231840"/>
            <a:ext cx="4873680" cy="31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высказываний Соколовского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м [в хосписах] лежат неизлечимо больные, они все равно сдохнут. На… им деньги дава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67680"/>
            <a:ext cx="8929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национал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своей сопричастности, единства с некой социальной общностью, рамки которой оказываются шире, чем непосредственные условия и обстоятельства прожи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адлежность к национальности определяется и осознается «по крови», то есть не является результатом интеллектуального выбора или акта «принятия в ряды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даментальное противопоставление «мы-они», «свои-чужие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«свои-чужие» материализуется в зримые образ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 «чужого» фиксируется в языке с помощью термина, несущего отрицательную смысловую нагрузку, дегуманизация, когда представитель «чужих» сравнивается с неодушевленным предме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отношению к дегуманизированному объекту допускается возможность насил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0" y="944640"/>
            <a:ext cx="51991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УЕ (А. У. Е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, «Арестантский уклад един» («Арестантское уркаганское единство») – молодёжное субкультурное сообщество, пропагандирующее среди несовершеннолетних воровские понятия российской криминальной среды и тюремные понятия, требующее соблюдение «воровского кодекса» со сбором денег на «общак», взамен обещая поддержку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 защиту в настоящем и буду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77760" y="857160"/>
            <a:ext cx="5994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игады смертников Ельцина»)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молодёжное субкультурное сообщество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лонников первого президента России Ельцина. В нем они видят трансцендентную сущность, победившую «красную чуму». Они зовут Бориса Николаевича «наш ледовласый вождь» и ждут его второго пришествия, «когда взойдет Черное Солнце». Твердо уверены, что Ельцин был скином. Готовы повторять его «подвиги»: веселиться и защищать идеалы демократии и свободного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150840" y="857160"/>
            <a:ext cx="879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Calibri"/>
              </a:rPr>
              <a:t>«Колумбайнеры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молодёжное субкультурное сообщество, интересующихся массовым убийством в американской школе «Колумбайн» и другими подобными нападениями, являющийся поклонником тех, кто совершил эти преступ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-88920" y="2330280"/>
            <a:ext cx="51102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овое убийство в школе «Колумбайн» — заранее подготовленное нападение двух учеников старших классов Эрика Харриса и Дилана Клиболда на остальных учеников и персонал в своей школе с применением стрелкового оружия и самодельных взрывных устройств, произошедшее 20 апреля 1999 года в школе «Колумбайн», штат Колорадо, США. Нападавшие ранили 37 человек, из них 13 — смертельно. После этого нападавшие застрелились са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817160" y="38098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рик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6586200" y="378792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лан Клибо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5"/>
          <p:cNvSpPr/>
          <p:nvPr/>
        </p:nvSpPr>
        <p:spPr>
          <a:xfrm>
            <a:off x="490680" y="36957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в Бидж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6651720" y="4653000"/>
            <a:ext cx="22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Буслид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2797200" y="1104840"/>
            <a:ext cx="40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января 2018 года в школ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7 Мотовилихинского района Перми произошло нападение с применением ножей, в результате которого резаные раны получили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несовершеннолетних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дин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76320" y="333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нание межрегионального общественного движения «Артподготовка» экстремистской организацией и запрет его деятельность на территори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195120" y="3456000"/>
            <a:ext cx="87645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3"/>
          <p:cNvSpPr/>
          <p:nvPr/>
        </p:nvSpPr>
        <p:spPr>
          <a:xfrm>
            <a:off x="85680" y="971640"/>
            <a:ext cx="89251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в части прекращения деятельности межрегионального общественного движения «Артподготовка» подлежит немедленному ис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может быть обжаловано через Красноярский краевой суд в Судебную коллегию по административным делам Верховного Суда Российской Федерации в течение месяца со дня принятия решения в окончатель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"/>
          <p:cNvSpPr/>
          <p:nvPr/>
        </p:nvSpPr>
        <p:spPr>
          <a:xfrm>
            <a:off x="108000" y="11592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0.01.2003 № 19-ФЗ (ред. от 18.06.2017)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выборах Президента Российской Федерации»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(с изм. и доп., вступ. в силу с 28.06.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Статья 3. Избирательные права граждан Российской Федерации при выборах Президент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5.2. Не имеет права быть избранным Президентом Российской Федерации гражданин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) осужденный к лишению свободы за совершение тяжкого и (или) особо тяжкого преступления и имеющий на день голосования неснятую и непогашенную судимость за указанное преступ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.1) осужденный к лишению свободы за совершение тяжкого преступления, судимость которого снята или погашена, - до истечения 10 лет со дня снятия или погашения суд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7920" y="4437000"/>
            <a:ext cx="894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Кировский областной суд 03.05.2017 оставил в силе приговор Алексею Навальному и бизнесмену Петру Офицерову, осужденным по делу о хищении средств компании "Кировлес" на 5 лет и 4 года лишения свободы условно соответственно. Приговор вступил в законную силу. Навальный осужден по части 4 статьи 160 УК РФ ("Присвоени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и растрата"), которая предусматривает до 10 лет лишения своб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332000" y="4076640"/>
            <a:ext cx="64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0.2. Нарушение установленного порядка организации либо проведения собрания, митинга, демонстрации, шествия или пике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1332000" y="260280"/>
            <a:ext cx="64260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9 июня 2004 года № 54-Ф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собраниях, митингах, демонстрациях, шествиях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и пикетированиях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413000" y="2025720"/>
            <a:ext cx="658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Закон Свердловской области от 07.12.2012 № 102-О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б отдельных вопросах подготовки и проведения публичных мероприятий на территории Свердловской области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1197000" y="504972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5.35. Неисполнение родителями или иными законными представителями несовершеннолетних обязанностей по содержанию и воспитанию несовершенноле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278000" y="3429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ДЕКС ОБ АДМИНИСТИВНЫХ ПРАВОНАРУШЕНИЯХ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1"/>
          <p:cNvSpPr/>
          <p:nvPr/>
        </p:nvSpPr>
        <p:spPr>
          <a:xfrm>
            <a:off x="250920" y="154080"/>
            <a:ext cx="8713800" cy="6299280"/>
          </a:xfrm>
          <a:prstGeom prst="ellipse">
            <a:avLst/>
          </a:prstGeom>
          <a:solidFill>
            <a:srgbClr val="ffffd9"/>
          </a:solidFill>
          <a:ln cap="rnd"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1170000" y="963720"/>
            <a:ext cx="7189920" cy="4697280"/>
          </a:xfrm>
          <a:prstGeom prst="ellipse">
            <a:avLst/>
          </a:prstGeom>
          <a:solidFill>
            <a:srgbClr val="ffffd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2435400" y="2201760"/>
            <a:ext cx="4363920" cy="2519640"/>
          </a:xfrm>
          <a:prstGeom prst="ellipse">
            <a:avLst/>
          </a:prstGeom>
          <a:solidFill>
            <a:srgbClr val="ffffd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630520" y="111960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533680" y="18000"/>
            <a:ext cx="426564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адик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533680" y="265788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еррор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0" y="189000"/>
            <a:ext cx="91440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ная революция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это технология, задача которой произвести государственный переворот и создать условия для внешнего управления политическими процессами в стране,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 искусственной политической нестабильности. При этом давление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йствующую власть оказывается путем политического шантажа, а в качестве движущей силы (инструмента) используется протестное движение</a:t>
            </a:r>
            <a:r>
              <a:rPr b="0" i="1" lang="ru-RU" sz="3600" spc="-1" strike="noStrike">
                <a:solidFill>
                  <a:srgbClr val="dbdbdb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24000" y="333360"/>
            <a:ext cx="871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а цветной революци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протестного движения -&gt; превращение его в политическую толпу (силу) 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 направление агрессии толпы на действующую законную власть, вынуждающую ее сдать свои полномочия и отказаться от управления стра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"/>
          <p:cNvPicPr/>
          <p:nvPr/>
        </p:nvPicPr>
        <p:blipFill>
          <a:blip r:embed="rId1"/>
          <a:stretch/>
        </p:blipFill>
        <p:spPr>
          <a:xfrm>
            <a:off x="0" y="549360"/>
            <a:ext cx="89233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8000" y="66600"/>
            <a:ext cx="892800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национальной или расовой ненависти и вражды, возбуждение ненависти и вражды по отношению к лицам иной национальности или р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социальной ненависти и вражды, возбуждение ненависти и вражды по отношению к лицам, принадлежащим к иным социальным группам, в том числе субкультур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ьственного, незаконного взятия и удержания власти, деяния и призывы к деяниям, направленным на насильственное изменение законно установленного порядка, незаконное взятие или удержание власти, возбуждение ненависти и вражды к представителям политических и идеологическ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8000" y="189000"/>
            <a:ext cx="8889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Молодежная субкультура экстремистской направленности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культура молодежного сообщества, которую отличают особый язык, стиль жизни, черты поведения, групповые нормы, ценности, средства самовыражения, направленные против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принятых культурных, нравственных и правовых нор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79280" y="8424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Виды объединений экстре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9280" y="497880"/>
            <a:ext cx="892980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Националис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тнонационалистической и сепарат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 (скинхеды, «антифа», «кавказские скинхед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риминальной направленности («АУЕ», «Колумбайнер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о–поли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севдолибераль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Левоэкстремистск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«Другая Россия-НБП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елигиоз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Ислам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еоязыческой и оккультно-сатан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оталитарные секты и деструктивные куль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840" y="1409760"/>
            <a:ext cx="891540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деология экстремизма (экстремистская идеология)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 взглядов и идей, представляющих насильственные и иные противоправные действия как основное средство разрешения социальных, расовых, национальных, религиозных и политически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явления экстремизма (экстремистские проявления)»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бщественно опасные и противоправные деяния,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ершаемые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по мотивам политической, идеологической, расовой, национальной или религиозной ненависти или вражд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а также деяния, способствующие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никновению или обострению межнациональных, межконфессиональных и региональны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08000" y="115920"/>
            <a:ext cx="882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ратегия противодействия </a:t>
            </a:r>
            <a:r>
              <a:rPr b="0" lang="ru-RU" sz="27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тремизму </a:t>
            </a:r>
            <a:br>
              <a:rPr sz="2700"/>
            </a:b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Российской Федерации до 2025 г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утверждена Президентом РФ 28.11.2014 № Пр-27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Ð° Ð´Ð°Ð½Ð½Ð¾Ð¼ Ð¸Ð·Ð¾Ð±ÑÐ°Ð¶ÐµÐ½Ð¸Ð¸ Ð¼Ð¾Ð¶ÐµÑ Ð½Ð°ÑÐ¾Ð´Ð¸ÑÑÑÑ: 1 ÑÐµÐ»Ð¾Ð²ÐµÐº, ÑÑÐ¾Ð¸Ñ, Ð±Ð¾ÑÐ¾Ð´Ð° Ð¸ Ð½Ð° ÑÐ»Ð¸ÑÐµ"/>
          <p:cNvPicPr/>
          <p:nvPr/>
        </p:nvPicPr>
        <p:blipFill>
          <a:blip r:embed="rId1"/>
          <a:stretch/>
        </p:blipFill>
        <p:spPr>
          <a:xfrm>
            <a:off x="108000" y="15840"/>
            <a:ext cx="5184720" cy="6913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5275440" y="2349360"/>
            <a:ext cx="38685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 WONT STAR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IS 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 flipV="1">
            <a:off x="1477800" y="1735920"/>
            <a:ext cx="1222560" cy="25236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8:18:23Z</dcterms:created>
  <dc:creator>ave</dc:creator>
  <dc:description/>
  <dc:language>en-US</dc:language>
  <cp:lastModifiedBy>Суслонов Павел Евгеньевич</cp:lastModifiedBy>
  <cp:lastPrinted>2018-09-04T13:19:58Z</cp:lastPrinted>
  <dcterms:modified xsi:type="dcterms:W3CDTF">2018-10-16T04:36:45Z</dcterms:modified>
  <cp:revision>310</cp:revision>
  <dc:subject/>
  <dc:title>САНКТ-ПЕТЕРБУРГСКИЙ УНИВЕРСИТЕТ МВД РОССИИ</dc:title>
</cp:coreProperties>
</file>